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3E8A-1C71-42A6-B290-3F879ECEA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F685-3EEA-476D-8DE5-7D9DDED8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E48A-A91C-43E5-99B2-FDFE23772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81B8-D883-4106-9FC8-B71DA8CD6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DC89-E46A-4F45-B228-62F58676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1C7B-5212-4CB7-9253-EB0990A3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5738-46F9-46B6-AE12-231C10AC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0DF6-4D37-418D-9F1B-A2D8A3A4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15E7-DA54-482B-9BB5-233407B4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DC13-A430-4B74-B8D2-371D72C0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2314-6D97-4E0B-828C-C06B379B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8AD1-F506-440A-B181-168041E3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1ED2-06D6-41F6-9D23-E2E51D08C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600200"/>
            <a:ext cx="5791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Jokerman LET"/>
              </a:rPr>
              <a:t>Movie Poste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143000" y="3200400"/>
            <a:ext cx="1800360" cy="2533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638680" y="3276720"/>
            <a:ext cx="2067120" cy="2209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400800" y="304920"/>
            <a:ext cx="1838160" cy="15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ie Po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ertis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 to persuade you to see the mov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olors, fonts to reflect the mood or tone of the mov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chy slogans to get your 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4648320"/>
            <a:ext cx="1778040" cy="1726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629400" y="4572000"/>
            <a:ext cx="138276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66680" y="53352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acteristics of a Good Movie Po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1600200"/>
            <a:ext cx="647676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le – should jump out / easy to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s/Names of Actors or Act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s/objects properly framed (does the way they are displayed convey a message about them or a movie 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s the mood of the mov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use of color and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y slo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629400" y="3809880"/>
            <a:ext cx="17431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95200" y="380880"/>
            <a:ext cx="4008600" cy="5639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745160" y="228600"/>
            <a:ext cx="3911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09480" y="914400"/>
            <a:ext cx="3649680" cy="5400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827600" y="838080"/>
            <a:ext cx="3668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52600" y="609480"/>
            <a:ext cx="3539880" cy="5243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029200" y="533520"/>
            <a:ext cx="37530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3546360" cy="5262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3597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861840" y="609480"/>
            <a:ext cx="3594240" cy="5334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952880" y="533520"/>
            <a:ext cx="37483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3963960" cy="5553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619520" y="304920"/>
            <a:ext cx="37083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04:18:30Z</dcterms:created>
  <dc:creator>Patrick J. Mooney</dc:creator>
  <dc:description/>
  <dc:language>en-US</dc:language>
  <cp:lastModifiedBy>Patrick J. Mooney</cp:lastModifiedBy>
  <dcterms:modified xsi:type="dcterms:W3CDTF">2012-03-06T14:45:40Z</dcterms:modified>
  <cp:revision>7</cp:revision>
  <dc:subject/>
  <dc:title>Slide 1</dc:title>
</cp:coreProperties>
</file>